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FCF9-CF7B-47B0-8149-7A76591BD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4CB4-A3B8-40D4-B788-B9D724F4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40FF-20E1-46D5-9F7E-89209D2D5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9084-47A9-4801-B855-E9E7005FC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0A64-F6EC-4D40-B4CB-3240C417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6DB2-6F27-4A06-93AB-58C207AF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DC96-6234-41BD-9CB0-ADE40D94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D863-A7AE-40E0-917D-D63A31C3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EF63-B22D-430B-81B7-BACAE711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C292-05B4-4BE1-827A-C2679BF4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D9EA-7AD4-4DE2-847A-1A11895A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29B9-A658-49CB-BE78-D674F199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D1F7-99E8-47BB-868F-FC201350A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836640"/>
            <a:ext cx="9144000" cy="514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050920" y="2492280"/>
            <a:ext cx="5832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ВАР - КОНДИТЕР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84120"/>
            <a:ext cx="9144000" cy="6089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78000"/>
            <a:ext cx="9144000" cy="610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39720"/>
            <a:ext cx="9144000" cy="5576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98400"/>
            <a:ext cx="9144000" cy="5459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0"/>
            <a:ext cx="86868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69720"/>
            <a:ext cx="9144000" cy="611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82680"/>
            <a:ext cx="9144000" cy="6092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0"/>
            <a:ext cx="806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1120" y="0"/>
            <a:ext cx="88599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853920"/>
            <a:ext cx="9144000" cy="5148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78000"/>
            <a:ext cx="9144000" cy="610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190520"/>
            <a:ext cx="9144000" cy="447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4600" y="0"/>
            <a:ext cx="87933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480" y="0"/>
            <a:ext cx="90230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044720"/>
            <a:ext cx="9144000" cy="476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30320" y="0"/>
            <a:ext cx="70819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82680"/>
            <a:ext cx="9144000" cy="6091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19120"/>
            <a:ext cx="9144000" cy="5818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480" y="0"/>
            <a:ext cx="90770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66760"/>
            <a:ext cx="9144000" cy="6324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ПОВАР-КОНДИТЕ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специалист, умеющий изготавливать кондитерские изделия и десер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46040"/>
            <a:ext cx="9144000" cy="5964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65200"/>
            <a:ext cx="9144000" cy="3925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65240"/>
            <a:ext cx="9144000" cy="6527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03440"/>
            <a:ext cx="9144000" cy="5449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1557360"/>
            <a:ext cx="3475080" cy="5156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050920" y="836640"/>
            <a:ext cx="5977080" cy="11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ятного аппетит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Подводим итог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ПОВАР-КОНДИТЕ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фессионально-важные качеств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лжен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любить готови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бходимы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хорошая памя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в том числе вкусовая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творческ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оображ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тонкий вкус и обоня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ороша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оординация движе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на уровне рук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глазомер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оспроизводящее воображение (способность, глядя на рецепт, представить внешний вид и вкус блюда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чест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дитеру нужн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физическая вынослив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При поточном производстве приходится работать в высоком темпе, а если на производстве нет автоматизации, это означает большие физические нагруз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дицинские противопоказ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езни опорно-двигательного аппарата, сердечнососудистой системы,  аллергии на пищевые продукты, хронические заболевания органов пищеварения, органов дыхания, органов зрения, кожи с локализацией на кистях р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бсолютно недопустимы инфекционные и нервные боле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38080"/>
            <a:ext cx="9144000" cy="5181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341360"/>
            <a:ext cx="9144000" cy="5145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404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ПРОФЕССИОНАЛЬНАЯ ПРО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1628640"/>
            <a:ext cx="7199280" cy="4216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8900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Трайф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традиционный английский десер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еводе с английского - «Мелочь», «Пустяч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Правила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д началом работ надеть форму, перчат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готовление десерта описано в технологической карте. Соблюдайте технологию пригото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мните о правилах безопасной работы с ножом и электрическим миксе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емя приготовления 15 минут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1844640"/>
            <a:ext cx="4537080" cy="453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260280"/>
            <a:ext cx="453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Arial"/>
              </a:rPr>
              <a:t>Трайф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Arial"/>
              </a:rPr>
              <a:t>«Кофе-брей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32360" y="260280"/>
            <a:ext cx="40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Трайф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«Фруктовый (ягодный)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62480" y="1844640"/>
            <a:ext cx="3608640" cy="45100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РЕЦЕП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765000"/>
          <a:ext cx="8229600" cy="4926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23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Трайф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«Кофе-брейк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Трайф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«Фруктовый (ягодный)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лой (нижний) – бисквит, пропитанный холодным коф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лой (нижний) – бисквит, пропитанный ягодным сироп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слой - ванильный кр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слой – сироп (варенье из ягод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слой – нарезанные бан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слой – нарезанные фрукты или яг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слой - сливки, взбитые с сахарной пудр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слой - ванильный кр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,7,8 слои повторяют 1,2,3,4 сло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слой – сливки, взбитые с сахарной пудр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9T19:14:04Z</dcterms:created>
  <dc:creator>Александр</dc:creator>
  <dc:description/>
  <dc:language>en-US</dc:language>
  <cp:lastModifiedBy>Александр</cp:lastModifiedBy>
  <dcterms:modified xsi:type="dcterms:W3CDTF">2017-12-21T02:47:06Z</dcterms:modified>
  <cp:revision>4</cp:revision>
  <dc:subject/>
  <dc:title>Слайд 1</dc:title>
</cp:coreProperties>
</file>